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A690-7CFA-42CF-AB16-2C2901B52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894C-13A8-4B30-B4F9-9C84030BDE09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244D-37BE-45EE-85B5-8D6B8854BBEA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7237-573C-4303-8FAA-9DFAB929FA97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5CCC-27CC-4508-9E55-FB14EE73851F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540A-3D8D-452C-9F71-8E06B0B50394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1BC8-0F36-4F10-9A5E-FDC6F16C8116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14A3-3317-4B68-86EA-532387D750C8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98F7-44E9-4306-A685-1359428A6D5E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BA33-1AAE-4173-8678-9CFD76BF6C3D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E730-98F6-4F26-852C-C704CEAD480A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93DD-8D1C-419D-8EB3-2BCEADA1CAE7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C0B5-92FB-45FF-9217-E05E16BB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683D-9000-4567-B211-25DE1D2A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74ED-B2DB-4BB2-8B7C-97416163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1262-8BDE-499B-A3B0-66EE46CF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0408-72F8-4458-A98A-AC5A902E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5E8D-1C4E-4C06-AE52-37277465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B6D1-B11A-428F-8A8A-AF4A06C8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FC8F-1F85-4484-9465-A05298A6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CF88-6CBC-4498-BD99-0D525A64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B9A1-8E2E-4DD7-BCFE-47462680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507E-93D3-41C7-B9AE-6E044573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25A7-3708-4B01-AAA3-549CEA90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437B-6289-42A2-B48C-4224E4EE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CBDE-7F25-4D6C-A5E0-7BE56865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6E49-5BC6-44EE-8035-3BC5B710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DC63-72DA-42B0-80D7-565B015F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77A8-6694-4E93-9DCE-1804D3BE0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5911-F637-4EEE-896F-3504BD3E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EF05-891D-491E-8C97-A57A4117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A79C-2016-4A48-B68D-C122FDFC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D84B-8370-4728-9175-40967553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A6C2-888A-45DB-BD82-DB9BAE16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3B73-71EF-4299-8617-7E5DCF0C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00BB-97B6-47D2-9701-45111E93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DC8D-D425-4AD0-9F91-9D754D049DCD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26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1027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28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CA14-FDEA-47E3-9815-2169782D6BA3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Riddle of Hypnos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efining hypnosi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nature of hypnosi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ories of hypnosi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caine’s Effect on the Brai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533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ocaine blocks the brain’s reabsorption (“reuptake”) of the neurotransmitters dopamine and norepinephrine, so levels of these substances ris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e result is an overstimulation of certain brain circuits and a brief euphoric high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hen drug wears off, depletion of dopamine may cause user to “crash.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0" name="Picture 4" descr="&#10;F05.04.gif                                                     0002E896Macintosh HD                   ABA78158:"/>
          <p:cNvPicPr/>
          <p:nvPr/>
        </p:nvPicPr>
        <p:blipFill>
          <a:blip r:embed="rId1"/>
          <a:stretch/>
        </p:blipFill>
        <p:spPr>
          <a:xfrm>
            <a:off x="6162840" y="3048120"/>
            <a:ext cx="2981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Psychology of Drug Effects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eactions to psychoactive drugs depend on: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hysical factors such as body weight, metabolism, initial state of emotional arousal and physical tolerance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Experience or the number of times a person has used a drug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Environmental factors such as where and with whom one is drinking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ental set or expectations for drug’s effects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efining hypnos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 procedure in which the practitioner suggests changes in the sensations, perceptions, thoughts, feelings or behavior of the subjec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Nature of Hypnos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e hypnotic state is not sleep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Hypnotic responsiveness depends more on the person being hypnotized than on the skill of the hypnotis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Hypnotized people can’t be forced to do things against their will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Feats performed under hypnosis can be performed by motivated people without hypnosi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Nature of Hypnos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Hypnosis doesn’t increase accuracy of memory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Hypnosis doesn’t produce a literal reexperiencing of long-ago event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Hypnotic suggestions have been used effectively for medical and psychological purpos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ories of Hypnos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issociation theori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Hypnosis is a split in consciousness in which one part of the mind operates independently of the rest of the consciousness, o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uring hypnosis, dissociation occurs between an executive control system in the brain (probably frontal lobes) and other brain systems involved in thinking and acting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8" name="Picture 4" descr="IL05.05.gif                                                    0002E896Macintosh HD                   ABA78158:"/>
          <p:cNvPicPr/>
          <p:nvPr/>
        </p:nvPicPr>
        <p:blipFill>
          <a:blip r:embed="rId1"/>
          <a:stretch/>
        </p:blipFill>
        <p:spPr>
          <a:xfrm>
            <a:off x="5257800" y="4594320"/>
            <a:ext cx="3322800" cy="17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ories of Hypnos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ociocognitive theori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Effects of hypnosis result from interaction between social influence of the hypnotist (socio) and the abilities, beliefs and expectations of the subject (cognitive)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an explain “alien abduction” and “past-life regression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1" name="Picture 5" descr="IL05.06.gif                                                    0002E896Macintosh HD                   ABA78158:"/>
          <p:cNvPicPr/>
          <p:nvPr/>
        </p:nvPicPr>
        <p:blipFill>
          <a:blip r:embed="rId1"/>
          <a:stretch/>
        </p:blipFill>
        <p:spPr>
          <a:xfrm>
            <a:off x="4800600" y="3971880"/>
            <a:ext cx="398160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nscious-altering Dru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assifying drug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physiology of drug effect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psychology of drug effect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assifying Dru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sychoactive drug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03600" indent="-40068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ubstance capable of influencing perception, mood, cognition, or behavior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yp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03600" indent="-40068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timulants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205640" indent="-2008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peed up activity in the CNS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903600" indent="-40068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epressants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205640" indent="-2008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low down activity in the CNS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903600" indent="-40068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Opiates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205640" indent="-2008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elieve pain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903600" indent="-40068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sychedelic drugs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205640" indent="-2008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disrupt normal thought processes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Physiology of Drug Effec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sychoactive drugs work by acting on brain neurotransmitters. These drugs can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increase or decrease the release of neurotransmitters,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revent reabsorption of excess neurotransmitters by the cells that have released them,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block the effects of neurotransmitters on receiving cells, o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bind to receptors that would ordinarily be triggered by a neurotransmitter or a neuromodulator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8T13:25:58Z</dcterms:created>
  <dc:creator>Psychology Department</dc:creator>
  <dc:description/>
  <dc:language>en-US</dc:language>
  <cp:lastModifiedBy>Meghan Reilly</cp:lastModifiedBy>
  <cp:lastPrinted>2002-05-29T17:01:12Z</cp:lastPrinted>
  <dcterms:modified xsi:type="dcterms:W3CDTF">2011-10-28T13:04:53Z</dcterms:modified>
  <cp:revision>14</cp:revision>
  <dc:subject/>
  <dc:title>Body Rhythms and Mental States</dc:title>
</cp:coreProperties>
</file>